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14E-8896-4DF9-AC69-1F6A74D5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AD3D-343C-4EF9-957B-B2110057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660B-CBF7-4E13-B249-DFC26510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51F7-074B-4C55-A27D-E59797A3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EAF-A000-4780-8FEF-FDF881C6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29E-ED21-4C0D-A384-2FA88B81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CCA-0263-4F9C-89F6-E3442875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479-3119-40BA-9AC8-D0C07F6F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CE2-F995-448F-8652-DDE5AFA4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B43-2FBB-46AC-BEED-8C4F2DA3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122-E1DD-420E-BA0E-6FCC200D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C85-0E6C-4F11-86B9-9E79021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2741-87A9-48E7-977A-3D955E97B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Dismissal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Go in peace to lo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nd serve the Lo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name of Christ. Am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48:39Z</dcterms:created>
  <dc:creator>Anon Anon</dc:creator>
  <dc:description/>
  <dc:language>en-US</dc:language>
  <cp:lastModifiedBy>Anon Anon</cp:lastModifiedBy>
  <dcterms:modified xsi:type="dcterms:W3CDTF">2005-08-09T05:28:13Z</dcterms:modified>
  <cp:revision>8</cp:revision>
  <dc:subject/>
  <dc:title>PowerPoint Presentation</dc:title>
</cp:coreProperties>
</file>